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CC0-CC14-4517-9D59-74E33FC5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C9B-5351-4AC8-A179-19322FB8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8D2-DFAF-4A31-BB47-49255F4C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160-BFC1-4249-94E4-0CEF7CBB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BFA-13F1-4147-84CC-4A5077CF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29E-E295-4DF9-8BA6-9069C8E1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6E9-80C6-4658-9ABB-A9A4393E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B78-94D6-4F7E-A2FE-65788756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C35-BF87-4395-8696-778F2343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72C-D2B7-4B93-88FF-FBF63BB7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B97-ADA0-4706-9EFD-9456570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370-8E95-4152-8752-75894795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8222-DE47-49C2-A5CC-274624D83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5560" y="1678320"/>
            <a:ext cx="8378280" cy="350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333399"/>
                </a:solidFill>
                <a:latin typeface="comic"/>
              </a:rPr>
              <a:t>26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О, чудно е Божието Слово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С удива четем ние там    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чудното дело Христово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за дар изкупителен нам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24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231840" y="-579600"/>
            <a:ext cx="9699840" cy="8017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в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пречуд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купен си ти, оправда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обич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крайн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пасител пред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0" y="-671400"/>
            <a:ext cx="9145440" cy="83818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2. Елате при този Спасител,                                                                     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вий скръбни и страдни души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На радостна вест е носител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и нежно Той знай да те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04920" y="-579600"/>
            <a:ext cx="9845640" cy="8017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"/>
              </a:rPr>
              <a:t>                           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в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пречуд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купен си ти, оправда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об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крайн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пасител пред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0240"/>
            <a:ext cx="9150480" cy="69188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3. Прибежище такова няма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нийде по целий свят за нас!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е гледайте земна измама,</a:t>
            </a:r>
            <a:br>
              <a:rPr sz="4400"/>
            </a:b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bg-BG" sz="4400" spc="-1" strike="noStrike">
                <a:solidFill>
                  <a:srgbClr val="ffffff"/>
                </a:solidFill>
                <a:latin typeface="Arial"/>
              </a:rPr>
              <a:t>но чуйте спасителен гл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304920" y="-1189080"/>
            <a:ext cx="9845640" cy="92361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bg-BG" sz="40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вес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й-пречуд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Изкупен си ти, оправдан!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О, вярвай в таз обич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безкрайн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на твоя Спасител предан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6T18:55:20Z</dcterms:created>
  <dc:creator>TrifonTrifonow</dc:creator>
  <dc:description/>
  <dc:language>en-US</dc:language>
  <cp:lastModifiedBy>TrifonTrifonow</cp:lastModifiedBy>
  <dcterms:modified xsi:type="dcterms:W3CDTF">2005-11-21T12:02:30Z</dcterms:modified>
  <cp:revision>10</cp:revision>
  <dc:subject/>
  <dc:title>Slide 1</dc:title>
</cp:coreProperties>
</file>